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8FE-2470-4DFC-BEBB-7C001AC9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2DE-95F6-4306-8972-8E27977F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2B9-1BDC-4010-BC4A-C3BF7E5A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CD4-6FD1-47D2-BE28-5EE2FC98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1669-37EA-418D-A416-DD250ED0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F2D0-DAFA-4340-A63C-FB68F32E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1BB8-697B-4CAC-978B-D79E2D9C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FFF5-5E56-4A59-8884-8C57D99B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7F04-D66D-487E-A68C-3E5883C2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B413-3BF1-47BE-B217-6636C627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12A3-4B8D-44BF-93C6-A4E744DD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BA6-2B63-4E95-A2F5-D0CBDA35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8057-B850-48BF-890B-AE575910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C324-F44F-4063-8F5C-C979A8C2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3CCA-40F0-45A0-8757-A970CDB4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C9D0-B614-48C1-8A33-2D9FAD8A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8621-1B2E-42CB-92AA-AA2DDD0C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7A6-454D-440E-80C7-0793BC29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2B1-BF75-494A-8970-7E39C729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50C-501B-4C7F-93C6-8253EEC1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69E-3D3F-4A80-9A9A-A8E8A330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FD6-9D80-4A00-820F-CDBE20A0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795-10AA-4017-B02A-B5591317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EB5-45E1-41CE-84D2-6301FD93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BF23-F288-4A27-B1C9-4C3122CC2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F7C2-69BE-4BCD-9E2F-C6BEFE27541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600"/>
                </a:solidFill>
                <a:latin typeface="SharnayExtralight"/>
              </a:rPr>
              <a:t>The Big Picture -</a:t>
            </a:r>
            <a:br>
              <a:rPr sz="4800"/>
            </a:br>
            <a:r>
              <a:rPr b="0" lang="en-US" sz="4800" spc="-1" strike="noStrike">
                <a:solidFill>
                  <a:srgbClr val="ffe600"/>
                </a:solidFill>
                <a:latin typeface="SharnayExtralight"/>
              </a:rPr>
              <a:t>Career Plan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4419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e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Your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600"/>
                </a:solidFill>
                <a:latin typeface="Times New Roman"/>
              </a:rPr>
              <a:t>T 1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-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3760" y="0"/>
            <a:ext cx="9120240" cy="6723360"/>
            <a:chOff x="23760" y="0"/>
            <a:chExt cx="9120240" cy="67233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0" b="4695"/>
            <a:stretch/>
          </p:blipFill>
          <p:spPr>
            <a:xfrm>
              <a:off x="23760" y="0"/>
              <a:ext cx="150012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569960" y="28440"/>
              <a:ext cx="7543800" cy="640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00200" y="0"/>
              <a:ext cx="754380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1520" y="1400040"/>
              <a:ext cx="0" cy="5077080"/>
            </a:xfrm>
            <a:prstGeom prst="line">
              <a:avLst/>
            </a:prstGeom>
            <a:ln w="1908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4720" y="6477120"/>
              <a:ext cx="856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Copyright  © 2005 by JoAnn Harris-Bowlsbey, Ed.D. and Nancy Perry, MSEd. All rights reserved. Permission granted by publisher to copy for student use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2d83"/>
                </a:solidFill>
                <a:latin typeface="SharnayExtralight"/>
              </a:rPr>
              <a:t>Why Career Planning is Impor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7040" y="159984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pend at least 35-40% of waking time at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action or dissatisfaction at work affects other parts of our l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work determines our income and, therefor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lifesty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600"/>
                </a:solidFill>
                <a:latin typeface="Times New Roman"/>
              </a:rPr>
              <a:t>T 1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3760" y="0"/>
            <a:ext cx="9120240" cy="6723360"/>
            <a:chOff x="23760" y="0"/>
            <a:chExt cx="9120240" cy="672336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rcRect l="0" t="0" r="0" b="4695"/>
            <a:stretch/>
          </p:blipFill>
          <p:spPr>
            <a:xfrm>
              <a:off x="23760" y="0"/>
              <a:ext cx="150012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569960" y="28440"/>
              <a:ext cx="7543800" cy="640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00200" y="0"/>
              <a:ext cx="754380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1520" y="1400040"/>
              <a:ext cx="0" cy="5077080"/>
            </a:xfrm>
            <a:prstGeom prst="line">
              <a:avLst/>
            </a:prstGeom>
            <a:ln w="1908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4720" y="6477120"/>
              <a:ext cx="856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Copyright  © 2005 by JoAnn Harris-Bowlsbey, Ed.D. and Nancy Perry, MSEd. All rights reserved. Permission granted by publisher to copy for student use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2d83"/>
                </a:solidFill>
                <a:latin typeface="SharnayExtralight"/>
              </a:rPr>
              <a:t>Why Career Planning is Impor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1600200"/>
            <a:ext cx="6705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ople we work with typically become our fri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s a way to express our interests, skills, and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s a way to structure our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600"/>
                </a:solidFill>
                <a:latin typeface="Times New Roman"/>
              </a:rPr>
              <a:t>T 1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-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23760" y="0"/>
            <a:ext cx="9120240" cy="6723360"/>
            <a:chOff x="23760" y="0"/>
            <a:chExt cx="9120240" cy="672336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rcRect l="0" t="0" r="0" b="4695"/>
            <a:stretch/>
          </p:blipFill>
          <p:spPr>
            <a:xfrm>
              <a:off x="23760" y="0"/>
              <a:ext cx="150012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569960" y="28440"/>
              <a:ext cx="7543800" cy="640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00200" y="0"/>
              <a:ext cx="754380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1520" y="1400040"/>
              <a:ext cx="0" cy="5077080"/>
            </a:xfrm>
            <a:prstGeom prst="line">
              <a:avLst/>
            </a:prstGeom>
            <a:ln w="1908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4720" y="6477120"/>
              <a:ext cx="856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Copyright  © 2005 by JoAnn Harris-Bowlsbey, Ed.D. and Nancy Perry, MSEd. All rights reserved. Permission granted by publisher to copy for student use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2d83"/>
                </a:solidFill>
                <a:latin typeface="SharnayExtralight"/>
              </a:rPr>
              <a:t>Possible Influences on Your </a:t>
            </a:r>
            <a:br>
              <a:rPr sz="3600"/>
            </a:br>
            <a:r>
              <a:rPr b="0" lang="en-US" sz="3600" spc="-1" strike="noStrike">
                <a:solidFill>
                  <a:srgbClr val="0c2d83"/>
                </a:solidFill>
                <a:latin typeface="SharnayExtralight"/>
              </a:rPr>
              <a:t>Career Cho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90920" y="159984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ts and other rela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600"/>
                </a:solidFill>
                <a:latin typeface="Times New Roman"/>
              </a:rPr>
              <a:t>T 1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-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3760" y="0"/>
            <a:ext cx="9120240" cy="6723360"/>
            <a:chOff x="23760" y="0"/>
            <a:chExt cx="9120240" cy="672336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rcRect l="0" t="0" r="0" b="4695"/>
            <a:stretch/>
          </p:blipFill>
          <p:spPr>
            <a:xfrm>
              <a:off x="23760" y="0"/>
              <a:ext cx="150012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569960" y="28440"/>
              <a:ext cx="7543800" cy="640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0200" y="0"/>
              <a:ext cx="754380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1520" y="1400040"/>
              <a:ext cx="0" cy="5077080"/>
            </a:xfrm>
            <a:prstGeom prst="line">
              <a:avLst/>
            </a:prstGeom>
            <a:ln w="1908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4720" y="6477120"/>
              <a:ext cx="856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Copyright  © 2005 by JoAnn Harris-Bowlsbey, Ed.D. and Nancy Perry, MSEd. All rights reserved. Permission granted by publisher to copy for student use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2d83"/>
                </a:solidFill>
                <a:latin typeface="SharnayExtralight"/>
              </a:rPr>
              <a:t>Possible Influences on Your </a:t>
            </a:r>
            <a:br>
              <a:rPr sz="3600"/>
            </a:br>
            <a:r>
              <a:rPr b="0" lang="en-US" sz="3600" spc="-1" strike="noStrike">
                <a:solidFill>
                  <a:srgbClr val="0c2d83"/>
                </a:solidFill>
                <a:latin typeface="SharnayExtralight"/>
              </a:rPr>
              <a:t>Career Cho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14240" y="1523520"/>
            <a:ext cx="6248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rse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-time jo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unteer work (community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curricular activ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600"/>
                </a:solidFill>
                <a:latin typeface="Times New Roman"/>
              </a:rPr>
              <a:t>T 1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-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nk of Your Life as a Personal Photo Album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anyone remember the first time you were asked, “What do you want to be when you grow up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you answer that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at 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years 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Play the Dictator Gam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be given an occupational profile and a copy of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int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you will play the role of a person in an occu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ill ask questions from the list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your partner has guessed your occupation then switch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llow-up questions after the activit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of you liked the occupation you were assig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of you disliked the occupation you were assig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d to be in this occupation, what do you think your life would be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education would you n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oney would you ma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kinds of tasks would you be doing every 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llow-up questions after the activit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are some of the people who have influenced your interests, abilities and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led you to have a preference for a certain kind of work (or being driven away from i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w has your coursework in school affected your thinking about your future occupation(s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20:20:32Z</dcterms:created>
  <dc:creator>Dr. David M. Reile</dc:creator>
  <dc:description/>
  <dc:language>en-US</dc:language>
  <cp:lastModifiedBy>ASD</cp:lastModifiedBy>
  <cp:lastPrinted>2001-05-29T20:50:20Z</cp:lastPrinted>
  <dcterms:modified xsi:type="dcterms:W3CDTF">2011-06-06T19:01:29Z</dcterms:modified>
  <cp:revision>39</cp:revision>
  <dc:subject/>
  <dc:title>Why Career Planning is Important</dc:title>
</cp:coreProperties>
</file>